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97B7-CEF0-4D3E-9D96-9D180583F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A569-0D23-47B9-AA87-6DF923362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87F5-D0FE-4307-9AF2-DE694E99C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624C-0294-4E00-A12B-6390A595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7F15-B72C-4844-B355-43018DB1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907C-98E0-4694-AAA0-E3EEDACFD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AB2A-7878-4CDB-84C6-92585F08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337A-1A3A-406A-A9FD-03A75926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066C-B640-4A6F-9C85-AAEF560E6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880E-41CC-4F2E-BB6D-866F23D24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233-FED4-4E5E-970F-8CED6DDF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952-4346-41DC-8A99-906A8914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414-D6F2-4136-804D-9AC5E9BF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F42-FE56-4E91-AE46-311BE7CA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E12-C621-4678-9FFE-3C8DC4E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3AF-86BC-4CD3-8372-40CCBE6A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986-66BF-45AB-99E3-86471ECB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371-8745-4511-B0C0-AADE680B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5A2-0E24-4866-B35B-08FE5381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00F-1FCF-4A89-901B-22DD1DB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BE8-8345-484F-B491-CF2A84A5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5BB-CD1C-4EF8-B87B-E6BD6D4B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FE86-CDE2-421C-AF40-85F382093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7.4  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view from 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2863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mapping of input values (x-values) onto output values (y-valu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3 ways to show the same re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000160" y="4165560"/>
            <a:ext cx="165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981080" y="4876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514600" y="4368960"/>
            <a:ext cx="0" cy="43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[image]"/>
          <p:cNvPicPr/>
          <p:nvPr/>
        </p:nvPicPr>
        <p:blipFill>
          <a:blip r:embed="rId1"/>
          <a:stretch/>
        </p:blipFill>
        <p:spPr>
          <a:xfrm>
            <a:off x="3543480" y="4064040"/>
            <a:ext cx="2685960" cy="47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15"/>
          <p:cNvSpPr/>
          <p:nvPr/>
        </p:nvSpPr>
        <p:spPr>
          <a:xfrm>
            <a:off x="228600" y="5892840"/>
            <a:ext cx="1447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711000"/>
            <a:ext cx="65721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rse 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ust think: switch the x &amp; y-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727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0" y="2286000"/>
                <a:ext cx="1143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2000160" y="1625760"/>
            <a:ext cx="1600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 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1905120" y="2362320"/>
            <a:ext cx="12571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514600" y="1523880"/>
            <a:ext cx="0" cy="436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[image]"/>
          <p:cNvPicPr/>
          <p:nvPr/>
        </p:nvPicPr>
        <p:blipFill>
          <a:blip r:embed="rId1"/>
          <a:stretch/>
        </p:blipFill>
        <p:spPr>
          <a:xfrm>
            <a:off x="3600360" y="1320840"/>
            <a:ext cx="2928960" cy="5207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9"/>
          <p:cNvSpPr/>
          <p:nvPr/>
        </p:nvSpPr>
        <p:spPr>
          <a:xfrm>
            <a:off x="0" y="36576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n equation: switch the x &amp; 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600200" y="60958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 table: switch the x &amp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943440" y="660384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 graph: the reflection of the original graph in the line y =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an inverse of y = -3x+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8006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switch x &amp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solve for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3x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x = -3y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-6 = -3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514600" y="5105520"/>
                <a:ext cx="16002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2514600" y="6248520"/>
                <a:ext cx="1600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480" y="254016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2 functions, f(x) &amp; g(x), if f(g(x))=x AND g(f(x))=x, then f(x) &amp; g(x) are inverses of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28560" y="589284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 means “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Verify that f(x)=-3x+6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152388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find f(g(x)) and g(f(x)).  If they both equal x, then they are inver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3048120"/>
            <a:ext cx="262908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g(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3(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+2)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-6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486240" y="3048120"/>
            <a:ext cx="2971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f(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3x+6)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-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0" y="67057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Because f(g(x))=x and g(f(x))=x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y are inve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H="1" flipV="1">
            <a:off x="1523880" y="5486040"/>
            <a:ext cx="990720" cy="1523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4572000" y="5181120"/>
            <a:ext cx="304920" cy="16765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o find the inverse of a fun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(x) to a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the x &amp; y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new equation for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Rememb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pass the vertical line t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51492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(a) Find the inverse of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1295280"/>
            <a:ext cx="302904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362320" y="2438280"/>
                <a:ext cx="12571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905120" y="2971800"/>
                <a:ext cx="2057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8"/>
              <p:cNvSpPr txBox="1"/>
              <p:nvPr/>
            </p:nvSpPr>
            <p:spPr>
              <a:xfrm>
                <a:off x="1981080" y="4191120"/>
                <a:ext cx="21337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 g(x)=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3714840" y="2031840"/>
            <a:ext cx="297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2514600" y="1676520"/>
            <a:ext cx="190512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=2y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9"/>
              <p:cNvSpPr txBox="1"/>
              <p:nvPr/>
            </p:nvSpPr>
            <p:spPr>
              <a:xfrm>
                <a:off x="2155680" y="3809880"/>
                <a:ext cx="119700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1"/>
              <p:cNvSpPr txBox="1"/>
              <p:nvPr/>
            </p:nvSpPr>
            <p:spPr>
              <a:xfrm>
                <a:off x="1295280" y="5943600"/>
                <a:ext cx="108612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3"/>
              <p:cNvSpPr txBox="1"/>
              <p:nvPr/>
            </p:nvSpPr>
            <p:spPr>
              <a:xfrm>
                <a:off x="3886200" y="5943600"/>
                <a:ext cx="11430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9:04:48Z</dcterms:created>
  <dc:creator>julie.geoghagan</dc:creator>
  <dc:description/>
  <dc:language>en-US</dc:language>
  <cp:lastModifiedBy>sraja</cp:lastModifiedBy>
  <dcterms:modified xsi:type="dcterms:W3CDTF">2011-04-05T12:28:12Z</dcterms:modified>
  <cp:revision>13</cp:revision>
  <dc:subject/>
  <dc:title>7.4</dc:title>
</cp:coreProperties>
</file>